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move the slide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4E9F-FBBB-47ED-9BE4-1ECC27125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the first missionary journey of Paul as described in Acts chapters 13 and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322-5E37-4872-ABD1-5233E67A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B66-5D3F-4957-A245-BB337245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B6F-106D-4F12-8AAC-EE066189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93B-1CC5-48DC-8BB9-1BEB4894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BB33-A133-4E65-875D-3EA2DDA3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4CD9-F14F-4975-9D18-FA98D274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4EDB-8218-44D5-A6B0-9AD76DDF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A4BF-BCEB-42FE-8C81-C2638F13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5868-07B9-4907-A12E-62AB95DF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A5D9-9C02-467F-A0E2-3256E5BE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631E-B9EF-4E6E-8C12-F6EA519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27F-E143-40C7-AC3A-0BB7AA97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72F3-DF29-4655-8F5F-A5042ED7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17CF-41FB-4453-8084-D965685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010C-4DAE-4659-BB6F-08A86BD8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C7F2-4660-4071-BF21-D78DB7A6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52AE-6C62-44DB-8878-B6231633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301-B4DA-4E3D-B7C2-80ABE12E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C71-7813-473D-843F-BB4A96FD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4C3-E656-47A4-B89A-84B0EF91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209-182E-491C-B330-F349F82D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32D-6F50-4666-B3E2-FDE7E741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A9F-3AEC-4424-9A38-0DD56BEA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49D-C3E6-4459-8336-80486F9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A057-F64C-4E5C-85D8-AEEDEC5BC5DC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4B50-3CC7-45E9-A60D-D363E0AB9CD7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Go Tell The Good News – Part 1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Quarter 11, Lesson 1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Acts 13:1-1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Pages 68-73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of Tarsu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aul (Paul)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Syria, Asia Minor, Macedonia, Greece, Rom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Wrote 13 (maybe 14) of the letters of the New Testament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Born in Tarsus of Cilicia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ducated in Jerusalem under Gamali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 Pharise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 Roman Citize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of Tarsu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84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aul (Paul)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Led in the early persecution against the saint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Got permission from High Priest to go after Christians in other place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Converted in Damasc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ppointed to be a servant and a witness for the Lord  (especially to the Gentiles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The Apostle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First three years after his baptism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reached in Damascus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Went to Arabia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reached in Damascus agai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Escaped a plot against his life (now on the receiving end of persecution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Returned to Jerusalem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Barnabas told his story of conversio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reached in Jerusalem until persecuted (15 days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Escaped to Tarsus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52880" y="304920"/>
            <a:ext cx="37339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Barnabas and Paul spent a year working in Antioch.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Brethren in Antioch sent relief to poor brethren in Judea by the hand of Barnabas and Saul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When the task was finished, Saul and Barnabas returned to Antioch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Paul was personally commissioned and qualified by Jesus Christ to be HIS Apostle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Barnabas would be an apostle (one sent) by the church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53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D 44-45</a:t>
            </a:r>
            <a:endParaRPr b="0" lang="en-US" sz="24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86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19920" y="228600"/>
            <a:ext cx="281916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The Call of Barnabas and Saul – Acts 13:1-3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Chosen by Spirit of God -1-2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Supported by the church of God  -3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They Sail to Cyprus – 13:4-12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Openness to God’s Word -4-7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Opposition to God’s Word – 8-11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Obedience to God’s Word - 12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11701080" cy="6872400"/>
            <a:chOff x="0" y="0"/>
            <a:chExt cx="11701080" cy="6872400"/>
          </a:xfrm>
        </p:grpSpPr>
        <p:grpSp>
          <p:nvGrpSpPr>
            <p:cNvPr id="168" name=""/>
            <p:cNvGrpSpPr/>
            <p:nvPr/>
          </p:nvGrpSpPr>
          <p:grpSpPr>
            <a:xfrm>
              <a:off x="0" y="0"/>
              <a:ext cx="11701080" cy="6872400"/>
              <a:chOff x="0" y="0"/>
              <a:chExt cx="11701080" cy="6872400"/>
            </a:xfrm>
          </p:grpSpPr>
          <p:pic>
            <p:nvPicPr>
              <p:cNvPr id="169" name="" descr=""/>
              <p:cNvPicPr/>
              <p:nvPr/>
            </p:nvPicPr>
            <p:blipFill>
              <a:blip r:embed="rId1"/>
              <a:srcRect l="0" t="212" r="0" b="-196"/>
              <a:stretch/>
            </p:blipFill>
            <p:spPr>
              <a:xfrm>
                <a:off x="0" y="0"/>
                <a:ext cx="9144000" cy="6872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0" name=""/>
              <p:cNvGrpSpPr/>
              <p:nvPr/>
            </p:nvGrpSpPr>
            <p:grpSpPr>
              <a:xfrm>
                <a:off x="6480" y="17640"/>
                <a:ext cx="11694600" cy="6368400"/>
                <a:chOff x="6480" y="17640"/>
                <a:chExt cx="11694600" cy="6368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658880" y="2298600"/>
                  <a:ext cx="149400" cy="17784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56800" y="2116080"/>
                  <a:ext cx="15422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Iconium</a:t>
                  </a:r>
                  <a:endParaRPr b="0" lang="en-US" sz="2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30960" y="3932280"/>
                  <a:ext cx="216000" cy="2160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281960" y="1663560"/>
                  <a:ext cx="32018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Antioch (Pisidian)</a:t>
                  </a:r>
                  <a:endParaRPr b="0" lang="en-US" sz="2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09240" y="3614760"/>
                  <a:ext cx="188208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Antioch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434960" y="2575080"/>
                  <a:ext cx="173160" cy="1728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65640" y="2562120"/>
                  <a:ext cx="1095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Lystr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01800" y="3003480"/>
                  <a:ext cx="13968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899720" y="2976480"/>
                  <a:ext cx="1044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Derbe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6006960" y="4167360"/>
                  <a:ext cx="330480" cy="203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1359000" y="4395960"/>
                  <a:ext cx="4673520" cy="11937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216000" y="5513400"/>
                  <a:ext cx="1092240" cy="1015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165240" y="3026880"/>
                  <a:ext cx="7920" cy="23590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227160" y="2812680"/>
                  <a:ext cx="11736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>
                  <a:off x="1211040" y="1932120"/>
                  <a:ext cx="515880" cy="4348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372600" y="2023920"/>
                  <a:ext cx="839880" cy="689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139760" y="1860480"/>
                  <a:ext cx="182520" cy="17316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86440" y="4162320"/>
                  <a:ext cx="407232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Mediterranean Sea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720" y="5748480"/>
                  <a:ext cx="175716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Cyprus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026040" y="423720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151680" y="428616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eleuci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25440" y="553248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28120" y="558180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alamas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480" y="5456160"/>
                  <a:ext cx="21564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32120" y="5124600"/>
                  <a:ext cx="1280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aphos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7360" y="2914560"/>
                  <a:ext cx="11142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Attali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2440" y="294156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89520" y="2523960"/>
                  <a:ext cx="1027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erg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63520" y="267984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1550880" y="2450880"/>
                  <a:ext cx="11772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1521000" y="2698920"/>
                  <a:ext cx="320400" cy="3823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9760" y="3211560"/>
                  <a:ext cx="11461320" cy="10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afd00"/>
                  </a:solidFill>
                  <a:custDash>
                    <a:ds d="499000" sp="201000"/>
                    <a:ds d="1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555800" y="17640"/>
                  <a:ext cx="4256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st Missionary Journey</a:t>
                  </a:r>
                  <a:endParaRPr b="0" lang="en-US" sz="32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28880" y="353880"/>
                  <a:ext cx="2412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cts 13 &amp; 14</a:t>
                  </a:r>
                  <a:endParaRPr b="0" lang="en-US" sz="32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055840" y="1351080"/>
                  <a:ext cx="401724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afd00"/>
                      </a:solidFill>
                      <a:latin typeface="Times New Roman"/>
                    </a:rPr>
                    <a:t>Modern Day Turkey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3200400" y="5094360"/>
                  <a:ext cx="177840" cy="12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558720" y="5564160"/>
                  <a:ext cx="177840" cy="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165240" y="4471920"/>
                  <a:ext cx="0" cy="1526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87520" y="4154400"/>
                  <a:ext cx="127080" cy="129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25800" y="6080040"/>
                  <a:ext cx="20073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ffff"/>
                      </a:solidFill>
                      <a:latin typeface="Arial"/>
                    </a:rPr>
                    <a:t>Satellite Image - NASA</a:t>
                  </a:r>
                  <a:endParaRPr b="0" lang="en-US" sz="1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" name=""/>
            <p:cNvSpPr/>
            <p:nvPr/>
          </p:nvSpPr>
          <p:spPr>
            <a:xfrm>
              <a:off x="0" y="73080"/>
              <a:ext cx="1689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©  EBibleTeacher.com  </a:t>
              </a:r>
              <a:endParaRPr b="0" lang="en-US" sz="14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67440" y="420480"/>
            <a:ext cx="102852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6666"/>
                </a:solidFill>
                <a:latin typeface="Arial Narrow"/>
              </a:rPr>
              <a:t>Paul-1st Missionary Journey</a:t>
            </a:r>
            <a:endParaRPr b="0" lang="en-US" sz="1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88280" y="6491160"/>
            <a:ext cx="86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Franklin Gothic Heavy"/>
                <a:hlinkClick r:id="rId2" action="ppaction://hlinksldjump"/>
              </a:rPr>
              <a:t>INDEX</a:t>
            </a:r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6:23:45Z</dcterms:created>
  <dc:creator> Tab Vines</dc:creator>
  <dc:description/>
  <dc:language>en-US</dc:language>
  <cp:lastModifiedBy>Frank D Vines</cp:lastModifiedBy>
  <dcterms:modified xsi:type="dcterms:W3CDTF">2007-02-18T14:29:57Z</dcterms:modified>
  <cp:revision>2</cp:revision>
  <dc:subject/>
  <dc:title>Go Tell The Good News – Part 1</dc:title>
</cp:coreProperties>
</file>